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973-EB34-4F76-927C-30C7EF4F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9EA-6388-4006-8EF2-FC160E7D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998-895A-4150-9AB0-CD87CF19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664-D1F7-4053-A3DC-0EE6ED79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FE4-0C65-424B-A5D2-C5A2D0C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C10-3E2E-4660-88ED-16AEA4AF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A86-9930-4B46-8E54-4BDBCC0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5F5-F095-4751-B3AF-7C067C9D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B48-596D-4843-8F84-ED83E20B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053-36E9-4117-8DD4-2F36582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D08-9B38-49F0-9EEB-0A61C60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B41-5642-46E7-AB9F-C902F07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888-FAD0-47AB-85A7-B84D4D8331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2133.htm" TargetMode="External"/><Relationship Id="rId3" Type="http://schemas.openxmlformats.org/officeDocument/2006/relationships/hyperlink" Target="http://baike.baidu.com/view/74768.htm" TargetMode="External"/><Relationship Id="rId4" Type="http://schemas.openxmlformats.org/officeDocument/2006/relationships/hyperlink" Target="http://baike.baidu.com/view/15168.htm" TargetMode="External"/><Relationship Id="rId5" Type="http://schemas.openxmlformats.org/officeDocument/2006/relationships/hyperlink" Target="http://baike.baidu.com/view/22654.htm" TargetMode="External"/><Relationship Id="rId6" Type="http://schemas.openxmlformats.org/officeDocument/2006/relationships/hyperlink" Target="http://baike.baidu.com/view/696433.htm" TargetMode="External"/><Relationship Id="rId7" Type="http://schemas.openxmlformats.org/officeDocument/2006/relationships/hyperlink" Target="http://baike.baidu.com/view/2760.htm" TargetMode="External"/><Relationship Id="rId8" Type="http://schemas.openxmlformats.org/officeDocument/2006/relationships/hyperlink" Target="http://baike.baidu.com/view/78856.htm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aike.baidu.com/view/47960.htm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76720" y="1052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4f81bd"/>
                </a:solidFill>
                <a:latin typeface="Arial"/>
                <a:ea typeface="黑体"/>
              </a:rPr>
              <a:t>子 夜 吴 歌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305928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1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7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324000" y="1125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  <a:ea typeface="微软雅黑"/>
              </a:rPr>
              <a:t>笼统而言，它的手法是先景语后情语，而情景始终交融。“长安一片月”，是写景同时又是紧扣题面写出“秋月扬明辉”的季节特点。而见月怀人乃古典诗歌传统的表现方法，加之秋来是赶制征衣的季节，故写月亦有兴义。此外，月明如昼，正好捣衣，而那“玉户帘中卷不去，捣衣砧上拂还来”的月光，对思妇是何等一种挑拨呵！制衣的布帛须先置砧上，用杵捣平捣软，是谓“捣衣”。这明朗的月夜，长安城就沉浸在一片此起彼落的砧杵声中，而这种特殊的“秋声”对于思妇又是何等一种挑拨呵！“一片”“万户”，写光写声，似对非对，措语天然而得咏叹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21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484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84360" y="1052640"/>
            <a:ext cx="73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秋风，也是撩人愁绪的，“秋风入窗里，罗帐起飘扬”，便是对思妇第三重挑拨。月朗风清，风送砧声，声声都是怀念玉关征人的深情。著“总是”二字，情思益见深长。这里，秋月秋声与秋风织成浑成的境界，见境不见人，而人物俨在，“玉关情”自浓。无怪王夫之说：“前四句是天壤间生成好句，被太白拾得。”（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唐诗评选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）此情之浓，不可遏止，遂有末二句直表思妇心声：“何日平胡虏，良人罢远征？”过分偏爱“含蓄”的读者责难道：“余窃谓删去末二句作绝句，更觉浑含无尽。”（田同之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西圃诗说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）其实未必然。“不知歌谣妙，声势出口心”（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大子夜歌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Calibri"/>
              </a:rPr>
              <a:t>），慷慨天然，是民歌本色，原不必故作吞吐语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516720" y="836640"/>
            <a:ext cx="1800360" cy="1444680"/>
          </a:xfrm>
          <a:prstGeom prst="rect">
            <a:avLst/>
          </a:prstGeom>
          <a:ln w="0">
            <a:noFill/>
          </a:ln>
        </p:spPr>
      </p:pic>
      <p:sp>
        <p:nvSpPr>
          <p:cNvPr id="88" name="同侧圆角矩形 4"/>
          <p:cNvSpPr/>
          <p:nvPr/>
        </p:nvSpPr>
        <p:spPr>
          <a:xfrm>
            <a:off x="468360" y="1341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140280" y="2479680"/>
            <a:ext cx="34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子夜吴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长安一片月，万户捣衣声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秋风吹不尽，总是玉关情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何日平胡虏，良人罢远征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9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七彩课堂插图板式封面\排版用图标、页眉页脚\标题图（终-排版用）共29个\概括主题.jpg"/>
          <p:cNvPicPr/>
          <p:nvPr/>
        </p:nvPicPr>
        <p:blipFill>
          <a:blip r:embed="rId2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332000" y="20606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子夜吴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整首诗语言明转天然，形象鲜明集中，情感委婉深厚，情景交融地表现了长安女子对征夫的思念，以间接方式塑造了长安女子的形象，读来令人怦然心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96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516720" y="8366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619280" y="2852640"/>
            <a:ext cx="690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32000" y="2060640"/>
            <a:ext cx="57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Calibri"/>
              </a:rPr>
              <a:t>笼统而言，它的手法是先景语后情语，而情景始终交融。“长安一片月”，是写景同时又是紧扣题面写出“秋月扬明辉”的季节特点。而见月怀人乃古典诗歌传统的表现方法，加之秋来是赶制征衣的季节，故写月亦有兴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10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F:\七彩课堂插图板式封面\排版用图标、页眉页脚\标题图（终-排版用）共29个\拓展延伸.jpg"/>
          <p:cNvPicPr/>
          <p:nvPr/>
        </p:nvPicPr>
        <p:blipFill>
          <a:blip r:embed="rId2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47640" y="1916280"/>
            <a:ext cx="629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冬  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》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　明朝驿使发，一夜絮征袍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　素手抽针冷，哪堪把剪刀。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　裁缝寄远道，几日到临洮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　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107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七彩课堂插图板式封面\排版用图标、页眉页脚\标题图（终-排版用）共29个\我会说.jpg"/>
          <p:cNvPicPr/>
          <p:nvPr/>
        </p:nvPicPr>
        <p:blipFill>
          <a:blip r:embed="rId2"/>
          <a:stretch/>
        </p:blipFill>
        <p:spPr>
          <a:xfrm>
            <a:off x="485640" y="4508640"/>
            <a:ext cx="2232000" cy="1657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403280" y="21337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整首诗语言明转天然，形象鲜明集中，情感委婉深厚，情景交融地表现了长安女子对征夫的思念，以间接方式塑造了长安女子的形象，读来令人怦然心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02"/>
          <p:cNvPicPr/>
          <p:nvPr/>
        </p:nvPicPr>
        <p:blipFill>
          <a:blip r:embed="rId1"/>
          <a:srcRect l="0" t="0" r="0" b="4437"/>
          <a:stretch/>
        </p:blipFill>
        <p:spPr>
          <a:xfrm>
            <a:off x="179280" y="836640"/>
            <a:ext cx="8713800" cy="5092560"/>
          </a:xfrm>
          <a:prstGeom prst="rect">
            <a:avLst/>
          </a:prstGeom>
          <a:ln w="0">
            <a:noFill/>
          </a:ln>
        </p:spPr>
      </p:pic>
      <p:sp>
        <p:nvSpPr>
          <p:cNvPr id="112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156360" y="43657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073600" y="1773360"/>
            <a:ext cx="332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一、补充诗句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长安（         ），万户（         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    ）吹不尽，总是（         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    ）平胡虏，（       ）罢远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二、解释诗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长安一片月，万户捣衣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秋风吹不尽，总是玉关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728800" y="21528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片月                捣衣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974240" y="2511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秋风                          玉关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847520" y="28717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何日                     良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332000" y="4076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秋月皎洁长安城一片光明， 家家户户传来捣衣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384200" y="495936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砧声任凭秋风吹也吹不尽， 声声总是牵系玉关的亲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311040" y="798480"/>
            <a:ext cx="8595000" cy="56214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2"/>
          <p:cNvSpPr txBox="1"/>
          <p:nvPr/>
        </p:nvSpPr>
        <p:spPr>
          <a:xfrm>
            <a:off x="2340000" y="2276640"/>
            <a:ext cx="4248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图片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4067280" y="1700280"/>
            <a:ext cx="417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子夜吴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李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110e619b5bdf21cdbb4bd29"/>
          <p:cNvPicPr/>
          <p:nvPr/>
        </p:nvPicPr>
        <p:blipFill>
          <a:blip r:embed="rId1"/>
          <a:stretch/>
        </p:blipFill>
        <p:spPr>
          <a:xfrm>
            <a:off x="0" y="836640"/>
            <a:ext cx="442764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43280" y="907920"/>
            <a:ext cx="424980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000" spc="-1" strike="noStrike">
                <a:solidFill>
                  <a:srgbClr val="006600"/>
                </a:solidFill>
                <a:latin typeface="Calibri"/>
              </a:rPr>
              <a:t>　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李白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(7 01—762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年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，字太白，号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青莲居士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，四川江油人，唐代伟大的浪漫主义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诗人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。其诗风豪放飘逸，想象丰富，语言流转自然，音律和谐多变。是华夏史上最伟大的诗人之一，又称为“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诗仙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”。有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李太白文集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三十卷行世。 李白的诗歌今存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990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多首。有大量的政治抒情诗，充分表现了诗人非凡的抱负，奔放的激情，豪侠的气概，也集中代表了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盛唐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诗歌昂阳奋发的典型音调。李白这种想落天外的特点，大大发展了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庄子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寓言，屈原初次的浪漫精神和表现手法，也融汇了道教的神仙意象，具有令人惊叹不已的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艺术魅力</a:t>
            </a:r>
            <a:r>
              <a:rPr b="1" lang="zh-CN" sz="2000" spc="-1" strike="noStrike">
                <a:solidFill>
                  <a:srgbClr val="006600"/>
                </a:solidFill>
                <a:latin typeface="Calibri"/>
              </a:rPr>
              <a:t>，赢得了一代「诗仙」的赞誉</a:t>
            </a:r>
            <a:r>
              <a:rPr b="0" lang="zh-CN" sz="2000" spc="-1" strike="noStrike">
                <a:solidFill>
                  <a:srgbClr val="006600"/>
                </a:solidFill>
                <a:latin typeface="Calibri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752825272247844227"/>
          <p:cNvPicPr/>
          <p:nvPr/>
        </p:nvPicPr>
        <p:blipFill>
          <a:blip r:embed="rId1"/>
          <a:srcRect l="0" t="0" r="0" b="10852"/>
          <a:stretch/>
        </p:blipFill>
        <p:spPr>
          <a:xfrm>
            <a:off x="179280" y="765000"/>
            <a:ext cx="8713800" cy="4878720"/>
          </a:xfrm>
          <a:prstGeom prst="rect">
            <a:avLst/>
          </a:prstGeom>
          <a:ln w="0">
            <a:noFill/>
          </a:ln>
        </p:spPr>
      </p:pic>
      <p:sp>
        <p:nvSpPr>
          <p:cNvPr id="56" name="同侧圆角矩形 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292720" y="263700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900000" y="1916280"/>
            <a:ext cx="722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１、会认４个字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２、正确、流利、有感情地朗读并背诵古诗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３、学习借助注释初步理解古诗大意，体会诗的意境。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5"/>
          <p:cNvGrpSpPr/>
          <p:nvPr/>
        </p:nvGrpSpPr>
        <p:grpSpPr>
          <a:xfrm>
            <a:off x="324000" y="765000"/>
            <a:ext cx="2071440" cy="661680"/>
            <a:chOff x="324000" y="765000"/>
            <a:chExt cx="2071440" cy="66168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324000" y="142056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同侧圆角矩形 7"/>
            <p:cNvSpPr/>
            <p:nvPr/>
          </p:nvSpPr>
          <p:spPr>
            <a:xfrm>
              <a:off x="324000" y="76500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同侧圆角矩形 9"/>
          <p:cNvSpPr/>
          <p:nvPr/>
        </p:nvSpPr>
        <p:spPr>
          <a:xfrm>
            <a:off x="3240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622920" y="436572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944160" y="784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33800" y="2133720"/>
            <a:ext cx="469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捣衣   优良   罢工   远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捣乱   良心   罢免   长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玉关   胡虏   良人   吴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4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68" name="同侧圆角矩形 9"/>
          <p:cNvSpPr/>
          <p:nvPr/>
        </p:nvSpPr>
        <p:spPr>
          <a:xfrm>
            <a:off x="39528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七彩课堂插图板式封面\排版用图标、页眉页脚\标题图（终-排版用）共29个\概括主题.jpg"/>
          <p:cNvPicPr/>
          <p:nvPr/>
        </p:nvPicPr>
        <p:blipFill>
          <a:blip r:embed="rId2"/>
          <a:stretch/>
        </p:blipFill>
        <p:spPr>
          <a:xfrm>
            <a:off x="7113600" y="479736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      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一片月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一片皎洁的月光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万户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千家万户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捣衣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洗衣时将衣服放在砧石上用棒棰打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吹不尽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吹不掉之意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玉关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玉门关。这两句说飒飒秋风，驱散不了内心的愁          思，而是更加勾起了 对远方征人的怀念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平胡虏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平定侵扰边境的敌人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良人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指驻守边地的丈夫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99"/>
                </a:solidFill>
                <a:latin typeface="Calibri"/>
                <a:ea typeface="微软雅黑"/>
              </a:rPr>
              <a:t>罢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结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9096120" cy="5529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324000" y="1413000"/>
            <a:ext cx="8353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Calibri"/>
              </a:rPr>
              <a:t>　   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子夜吴歌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秋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　                                李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长安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一片月，万户捣衣声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　秋风吹不尽，总是玉关情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　何日平胡虏，良人罢远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唐诗宋词 子夜吴歌秋歌 李白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2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9096120" cy="5529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539640" y="549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11280" y="1413000"/>
            <a:ext cx="79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Calibri"/>
              </a:rPr>
              <a:t>作品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秋月皎洁长安城一片光明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家家户户传来捣衣的声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砧声任凭秋风吹也吹不尽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声声总是牵系玉关的亲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什么时候才能把敌人平定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alibri"/>
              </a:rPr>
              <a:t>　　丈夫就可以结束漫长征途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1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472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有人称“前四句是天壤间生成好句，被太白拾得。“长安一片月”，是写景同时又是紧扣题面写出“秋月扬明辉”的季节特点。而见月怀人乃古典诗歌传统的表现方法，加之秋来是赶制征衣的季节，故写月亦有兴义。此外，月明如昼，正好捣衣，而那“玉户帘中卷不去，捣衣砧上拂还来”的月光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制衣的布帛须先置砧上，用杵捣平捣软，是谓“捣衣”。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明朗的月夜，长安城就沉浸在一片此起彼落的砧杵声中，而这种特殊的“秋声”对于思妇又是何等一种挑拨呵！“一片”、“万户”，写光写声，似对非对，措语天然而得咏叹味。秋风，也是撩人愁绪的，“秋风入窗里，罗帐起飘扬”，便是对思妇第三重挑拨。月朗风清，风送砧声，声声都是怀念玉关征人的深情。著“总是”二字，情思益见深长。这里，秋月秋声与秋风织成浑成的境界，见境不见人，而人物俨在，“玉关情”自浓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0-27T02:43:35Z</dcterms:modified>
  <cp:revision>2</cp:revision>
  <dc:subject/>
  <dc:title>幻灯片 1</dc:title>
</cp:coreProperties>
</file>